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elf-recruitment (SR) estimates in coral reef fishes with different spawning modes (shown are the highest SR values (%) reported in each publication). Bar colours indicate the method used; symbols show the average pelagic larval duration (PLD) for each corresponding family. Labels on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x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-axis correspond to the source (according to the reference list in the electronic supplementary material) and study regions: IP, Indo-Pacific; MBR, Mesoamerican Barrier Reef; MS, Mediterranean Sea; RS, Red Sea; GBR, Great Barrier Reef and CARIB, Caribb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Proportion of sibling pairs (black bars) and the entire juvenile sample (white) at 5 km distance classes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Correlogram of the autocorrelation index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(black line) as a function of geographical distance for 426 juveniles in Kimbe Bay. The dashed lines represent the 95% CIs of the null hypothesis of a random distribution. Error bars represent the 95% CI determined by bootstrapp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ascape and life-history traits do not predict self-recruitment in a coral reef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Marcela Herrera, Gerrit B. Nanninga, Serge Planes, Geoffrey P. Jones, Simon R. Thorrold, Pablo Saenz-Agudelo, Glenn R. Almany, and Michael L. Ber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iology Let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2(8):201603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ugust 9,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11036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640720" y="6983280"/>
            <a:ext cx="106524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f-recruitment (SR) estimates in coral reef fishes with different spawning modes (shown are the highest SR values (%) reported in each publication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640720" y="6983280"/>
            <a:ext cx="106524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5240" y="1079640"/>
            <a:ext cx="84949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cela Herrera et al. Biol. Lett. 2016;12:201603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11036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a) Proportion of sibling pairs (black bars) and the entire juvenile sample (white) at 5 km distance class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640720" y="6983280"/>
            <a:ext cx="1065240" cy="4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2314440"/>
            <a:ext cx="860436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cela Herrera et al. Biol. Lett. 2016;12:201603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11036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